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309B-1063-4CE4-8C98-08A64BFB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EF4-FB52-4139-93C1-A39758EAA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AE2-703A-43DD-8D30-5E6894E9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EFBC-C051-45EC-ADAF-6C5D4E91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0F4-BE77-4F16-9CDF-D25B07198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926-9CA7-44D6-9202-08334516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0E7661B-6411-4667-BD70-0B1E6086935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D63E65F-C86D-4B8A-8EFF-89058E18FCB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807C8AE-3FCD-465A-90C3-050EA3B9DF4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805360"/>
            <a:ext cx="8766000" cy="8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hanc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599840"/>
            <a:ext cx="769608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Set of design elements that can be applied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 include: background, font, font size, and color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professional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D04417E-A471-4036-8F09-0760CF19B88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hanc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Ribb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iew themes, Move mouse pointer to sample design on toolbar and h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C5F0D8F-E64E-4F86-9F47-386C0EF53FF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74600" y="3583080"/>
            <a:ext cx="76089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hanc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438280" y="4184640"/>
            <a:ext cx="4830840" cy="244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34880" y="1484280"/>
            <a:ext cx="847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a drawn picture, photo, or a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objects are graphics you draw and include in presentation (star, circle, other sh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 are separate files you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your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graphics include clipart or drawn illustrations you ca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9B9CC0B-23FD-4824-BBF9-9BF806F1857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 Clip 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lip Art button on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n image from the search results to insert it on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66D28B6-5B5C-4401-8ADB-9FFA7CB2924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50800" y="2178000"/>
            <a:ext cx="5718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11-30T05:23:03Z</dcterms:modified>
  <cp:revision>18</cp:revision>
  <dc:subject/>
  <dc:title>Slide 1</dc:title>
</cp:coreProperties>
</file>